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6B9-1F76-4009-8F4F-22BC6389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491-F75A-4CD2-BEAE-D781F176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48C-0178-40A9-8FE9-762B27FE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1DD-3ACF-45E1-950B-56BA6870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69A3-339E-41BB-805F-1BFF8067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10C3-5EC2-466D-80A5-73993C47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B3BF-BB7E-4F45-81E9-146B228A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73A8-32AD-48AC-8E70-6F8AA244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ACC2-532A-4589-ABD8-ABE8E290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7AFF-1392-4219-A98D-A22078FE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7947-DC2F-42BE-AABE-21470D4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6AA-5B1E-4AA6-9416-4DEBA855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6ABB-093F-4A74-A4E6-BE512171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511D-8F60-4114-BF53-688643E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0F51-0B8D-4FCD-86C7-E7E8150D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CC3-22F6-4801-8ADA-CF955F42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4337-1994-4564-BE02-96302B1C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0B13-8DF7-47E1-AA63-DD9D1B0F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ABFE-8CCA-4EC9-B85D-369FD7BC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B9EE-F00C-4EEA-B927-1F7E6A73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BDE1-2D70-42B3-854C-2F9E7EF5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B5CD-4488-43AD-ADE9-E647BFFA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025-4491-4737-9D33-E6CD2C6A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6446-0DE8-4498-80CF-DEB6E65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9872-727B-4D46-AF9B-407F4C7B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2AFC-FE3C-4A57-9E67-1F970E8F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7F06-F40C-4B8E-812C-BBE9EE2C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7C5A-FF1A-4DB6-B24C-649DF58A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5E22-A0CE-4DFB-95B3-D0908978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98A15-DD7B-436B-99C3-FE700F5A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88B7-C254-4CB1-AB1D-B866964D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E944-DE57-4734-878C-AC4A8D5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64C8-A7A7-408B-8DFF-A5599A8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851-B53F-4618-AEE8-1F4FE18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5487A-5274-48E2-94F0-FFAD45F1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710B7-AB94-461A-B91B-47EAA500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23B1-ADD0-4B61-BB6E-EF64AF0C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B23F-CAAC-442F-A50E-F08F72A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8182-8A48-45CB-B5F7-B3E9E237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F297-03B1-407E-9C27-AF80607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D50C-C55C-448A-B6B4-01E8EFCE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97B6-81E8-4E0E-88E4-5399523C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9D44D-F1BB-49DF-AB2B-5E4E844D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E5A-EB4F-4E9B-8953-BE8FBDD4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082-2493-4ADF-967E-F59499EB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E2F-0B9A-4280-A452-6DE609AA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CB5-4726-4FB1-A1DA-976FE601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9E8-A142-430E-B8BF-E961539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7617-4B11-4B85-99DA-BB2F4F64FAD4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BC46-BB18-4C59-9061-DE47EE15236F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599A-C921-4A43-964C-58E08470A5A8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188E-B47D-449F-8627-06E3970E58DB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spañol 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I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68c4"/>
                </a:solidFill>
                <a:latin typeface="Constantia"/>
              </a:rPr>
              <a:t>SUBI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Documents and Settings\Administrator\Local Settings\Temporary Internet Files\Content.IE5\8CO4BM26\MCj04102730000[1].wmf"/>
          <p:cNvPicPr/>
          <p:nvPr/>
        </p:nvPicPr>
        <p:blipFill>
          <a:blip r:embed="rId1"/>
          <a:stretch/>
        </p:blipFill>
        <p:spPr>
          <a:xfrm>
            <a:off x="5257800" y="2743200"/>
            <a:ext cx="34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Más –IR verbos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Admit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admi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Permit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permit, al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Asistir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a)-to atten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Recib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rece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ubr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cov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ufr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suff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cid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decid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Un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uni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scrib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Viv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l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scubr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discov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iscut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discu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scrib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wri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ist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exi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575f6d"/>
                </a:solidFill>
                <a:latin typeface="Comic Sans MS"/>
              </a:rPr>
              <a:t>¿Cómo se dice en español?</a:t>
            </a:r>
            <a:endParaRPr b="0" lang="en-US" sz="49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-They attend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Ellos asisten a la escue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-She writes w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Ella escribe bue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- You understand Spanis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ú comprendes españ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-We sell the app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Nosotro vendemos las manza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- I read the boo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Yo leo el libr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Los finales para –ER Verbos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3668c4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SOTROS 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é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/UD.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 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 emo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COM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Administrator\Local Settings\Temporary Internet Files\Content.IE5\BZ9VOC52\MCj04404580000[1].wmf"/>
          <p:cNvPicPr/>
          <p:nvPr/>
        </p:nvPicPr>
        <p:blipFill>
          <a:blip r:embed="rId1"/>
          <a:stretch/>
        </p:blipFill>
        <p:spPr>
          <a:xfrm>
            <a:off x="457200" y="2590920"/>
            <a:ext cx="314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68c4"/>
                </a:solidFill>
                <a:latin typeface="Constantia"/>
              </a:rPr>
              <a:t>CORR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Administrator\Local Settings\Temporary Internet Files\Content.IE5\CJ9PF0LJ\MPj04308020000[1].jpg"/>
          <p:cNvPicPr/>
          <p:nvPr/>
        </p:nvPicPr>
        <p:blipFill>
          <a:blip r:embed="rId1"/>
          <a:stretch/>
        </p:blipFill>
        <p:spPr>
          <a:xfrm>
            <a:off x="1066680" y="2514600"/>
            <a:ext cx="2598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LE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C:\Documents and Settings\Administrator\Local Settings\Temporary Internet Files\Content.IE5\CJ9PF0LJ\MCj04404240000[1].wmf"/>
          <p:cNvPicPr/>
          <p:nvPr/>
        </p:nvPicPr>
        <p:blipFill>
          <a:blip r:embed="rId1"/>
          <a:stretch/>
        </p:blipFill>
        <p:spPr>
          <a:xfrm>
            <a:off x="685800" y="2971800"/>
            <a:ext cx="342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Otros –ER verbos incluyen…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Aprend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 to lear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Beb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 to drin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Comprend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understan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Cre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believ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Deb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owe, shoul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Pose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possess, ow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omp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brea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Tem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fear, drea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Vend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sel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Los finales para –IR Verbos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3668c4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SOTROS 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í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/UD.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 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 imo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I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68c4"/>
                </a:solidFill>
                <a:latin typeface="Constantia"/>
              </a:rPr>
              <a:t>ESCRIBI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Documents and Settings\Administrator\Local Settings\Temporary Internet Files\Content.IE5\FKOQXK84\MCj04404280000[1].wmf"/>
          <p:cNvPicPr/>
          <p:nvPr/>
        </p:nvPicPr>
        <p:blipFill>
          <a:blip r:embed="rId1"/>
          <a:stretch/>
        </p:blipFill>
        <p:spPr>
          <a:xfrm>
            <a:off x="4952880" y="2895480"/>
            <a:ext cx="35053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I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68c4"/>
                </a:solidFill>
                <a:latin typeface="Constantia"/>
              </a:rPr>
              <a:t>ABRI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C:\Documents and Settings\Administrator\Local Settings\Temporary Internet Files\Content.IE5\729ZYMEA\MPj01755810000[1].jpg"/>
          <p:cNvPicPr/>
          <p:nvPr/>
        </p:nvPicPr>
        <p:blipFill>
          <a:blip r:embed="rId1"/>
          <a:stretch/>
        </p:blipFill>
        <p:spPr>
          <a:xfrm>
            <a:off x="5410080" y="2590920"/>
            <a:ext cx="25909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20:58:07Z</dcterms:created>
  <dc:creator> </dc:creator>
  <dc:description/>
  <dc:language>en-US</dc:language>
  <cp:lastModifiedBy> </cp:lastModifiedBy>
  <dcterms:modified xsi:type="dcterms:W3CDTF">2009-09-29T18:03:23Z</dcterms:modified>
  <cp:revision>8</cp:revision>
  <dc:subject/>
  <dc:title>~ER &amp; ~IR verbos</dc:title>
</cp:coreProperties>
</file>